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F1D-2480-411B-8C2A-3B629244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56E9-93CA-4E82-8828-BA12958E94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CC6-A878-4E45-87E3-8A526B47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BC1-201D-4AF5-BD7D-54A8D6E2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EAB-9911-4628-B9B6-7FF17D6A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AAB-66AA-407F-BDE3-69A6A081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05BC-2FA5-48BF-BF39-73417860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967D-881E-486D-A5E0-F2496192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AA29-3044-434F-A9E3-41459344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7731-E306-447D-AE9C-B20296B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529C-522A-4B73-867C-E58042C8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0CE0-728F-4174-AA26-72DBE556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C0AE-9BD8-440D-AF6D-22B0CE0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5CB-2A13-4EBF-BE44-1697B8FA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C99C-92BA-4F88-BE15-79C2A0A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EFD-DC18-4E81-B273-0FBE447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6488-DD7F-4567-B15F-07FB7814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C60E-9AAE-47A4-BD5C-EC80D0C1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BD7A-A4FA-4A76-931B-4DB833FB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3030-CF0B-46CE-8B33-18DB3199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AEB0-882A-4BE9-9355-B76D10B0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F420-903C-43A7-BFC2-DEFE33BB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4D6F-E3D1-45C5-B7B1-82FA9F01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74A7-16F2-4B85-B17F-8A2FB754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42F-933F-4D12-B6BF-CDB87226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79F1-9C0F-411B-8788-AE42062D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C594-99E0-42DC-ABC3-3D7B8861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A57B9-D24B-4F52-AA56-89E02E9F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8263-4EA8-4CD3-9B35-E9FA25E1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A8E8-9D5F-4EA7-B56F-37EEB26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F2B3C-9038-4015-ACD0-1B66ADC8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6FF1-3D76-4CAA-9103-C291A339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D90B-3F6E-4CA3-9D8E-0A893EA2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624AC-44F4-4F34-93DA-0A30C945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DA3C-2CCF-40FB-9987-B69457EC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59C-D0B6-4B28-BCC7-A5CDF83E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2A2F-BA6D-4D74-9B13-85B3F424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9057-42B7-4715-8334-F1F55AF3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8879-C9C5-42F4-8242-5331C3D6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9088-2412-474E-A6D2-7C777E8C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CD15-2CF5-41A4-8118-686AAF8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9E0A-BA83-4D1E-9B1D-3F553B8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4FEC-6AB3-4781-9A58-F9C85967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DB32-A916-4AF5-B094-23B761AA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F2F1-8EFF-4D6C-9F5A-67C9D801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B63-4FC4-4045-9720-98A6952B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E77-D2BD-456A-AA94-9B198DE7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9D2-1D82-47CB-B932-F8DF6DE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A91-0946-4164-8DC8-13BC98CE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31F3-4F66-4A6F-8E1D-E80A197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C5B-85BC-457F-8116-A8D4376ACC5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6C4B-1909-4799-845A-7D534DD927D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E444-9093-4B02-9D20-3CF4C70B666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3AF7-D802-4FA0-BFEA-1DF029B8BE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ecec0c"/>
                </a:solidFill>
                <a:latin typeface="Arial"/>
              </a:rPr>
              <a:t>15. </a:t>
            </a:r>
            <a:r>
              <a:rPr b="1" lang="en-US" sz="4600" spc="-1" strike="noStrike">
                <a:solidFill>
                  <a:srgbClr val="ecec0c"/>
                </a:solidFill>
                <a:latin typeface="Arial"/>
              </a:rPr>
              <a:t> Population Genetic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iochemical characteris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electrophoresis, it has been shown that in hum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% of genes are poly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% of genes are mono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7% are found in a heterozygous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omosomal polymorph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hanges in the structure of chromosomes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 not have pathological consequences for the carrier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hang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entromer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Y chrom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and presence of satellites on acrocentric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ile sites (exception is fragile X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e inversions (according to some auth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ardy-Weinberg rule is th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undation of population genetic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mathematician H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rman physician Weinberg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ther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 allel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 allele 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ly in individuals of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requencies of gene alleles and genotypes in the population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17" name="Picture 35" descr="Image result for hardy weinberg images"/>
          <p:cNvPicPr/>
          <p:nvPr/>
        </p:nvPicPr>
        <p:blipFill>
          <a:blip r:embed="rId1"/>
          <a:stretch/>
        </p:blipFill>
        <p:spPr>
          <a:xfrm>
            <a:off x="2195640" y="1844640"/>
            <a:ext cx="4968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40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 u="sng">
                <a:solidFill>
                  <a:srgbClr val="ff0000"/>
                </a:solidFill>
                <a:uFillTx/>
                <a:latin typeface="Arial"/>
              </a:rPr>
              <a:t>Hardy-Weinberg rule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maintains its genetic structure (equilibrium) when transitioning from one generation to an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requency of genotypes in the offspring generation depends on the frequency of gene alleles in the parental gener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6659640" y="260280"/>
            <a:ext cx="1641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requency of heterozygotes (2pq) in the population at equilibriu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0.5 or 5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greater than the frequency of one homozygote, but it is never greater than the sum of homozygotes (2pq ≤ p^2 + q^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when the frequency of allele A (p) is equal to the frequency of allele a (q) (p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for the population to maintain its genetic structure (equilibrium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conditions need to be satisfie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mi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remains in panmix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no mut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anmixia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iffers from random m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mating is the probability that an individual of one sex has a chance of being fertilized by an individual of the other sex in which the observed trait is expressed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nmixia, in addition to random mating, it is necessary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Each type of crossbreeding produces the same number of off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sex ratio in the population is 1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population is infinitely l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two types of deviations from random mating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ssortative mating of g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(in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more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(out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less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Assortative mating of ph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a similar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different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the population consistently maintained its genetic structure, there would be no evolution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Evolutionary factors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ors that disrupt the genetic structure of a population ar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     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 and non-systematic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Selection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Mutations, migrations, genetic drift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n-systematic evolutionary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OPULA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opulation is a group of individuals of the same species that inhabit a specific habitat at a specific time and can engage in reproductive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the favoritism or elimination of genes or genotypes due to differential fertility or differential survival of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reproductive capacity of individuals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adaptive value 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of reduction in relative reproductive capacity is th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selection coefficient (S</a:t>
            </a:r>
            <a:r>
              <a:rPr b="0" lang="sr-Latn-CS" sz="2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dominant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cause it acts on both homozygotes and heterozygotes simultaneous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ful dominant gene can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completely penetrant, preventing reproduction of all carr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t will be eliminated in that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partially penetrant, preventing reproduction of some individuals (partial selec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ontinuously maintained in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recessive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acts only on recessive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fferentiate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omozygotes in favor of heterozyg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eterozygotes in favor of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on against homozygotes in favor of heterozygot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ickle cell anemia, thalassemia, G6PD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 HbS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H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s-HbA and HbS (has a selective advantage in malaria-endemic reg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against heterozygotes in favor of homozygot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xample: Rh fac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     Dd x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1   Dd, Dd, dd,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n the body of Rh-negative mothers, Rh-negative fetuses have a natural selective advant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gration, immigration, and emigratio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nsure gene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change in genetic structure depends on the extent of gene flow and the genetic differences between two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xchanging genes, populations become more similar in their genetic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way for new genes to appear in the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Mutation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m mutations are passed on to offspring from generation to gen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of conceived zygotes end up as spontaneous ab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of spontaneous abortions occur due to chromosomal aber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netic drift - genetic randomnes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263700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in the frequency of gene alleles in a population can also be a result of ch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occur in two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creating isol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losing a low-frequency gene allel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oogenesis, a low-frequency allele is randomly distributed in a oocyte and is lost from the popul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populations - inhabitants of a village, a city, a street..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pecies is divided into a large number of natural populations, and the largest population groups ar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human races (Negroids, Caucasoids, and Mongoloi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race is a group of historically related people with a common gen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includes a smaller or larger number of local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has been assumed that races arose solely due to geographical isolation, and that other factors have influenced them - selection, genetic drif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736560" y="546120"/>
            <a:ext cx="8305920" cy="838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1280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orph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tantly mo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tinuously interacting with environmental f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5" descr="Chart of Human Population Growth by Region - The Global Education Project"/>
          <p:cNvPicPr/>
          <p:nvPr/>
        </p:nvPicPr>
        <p:blipFill>
          <a:blip r:embed="rId2"/>
          <a:stretch/>
        </p:blipFill>
        <p:spPr>
          <a:xfrm>
            <a:off x="2087640" y="3429000"/>
            <a:ext cx="55087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structure of the population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2205000"/>
            <a:ext cx="914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ge in the genetic structure of the population is a result of adaptation to new environmental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over time, it's called evolutionary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in terms of space, it's called ecological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enetic burden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represent mutations, most commonly recessive ones, that decrease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most well-known genetic burdens is inbr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re are two approaches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 (1958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are the degree of reduction in the adaptive value of the average genotype compared to the best geno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bzhansky (1964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whose adaptive value is below the established average for heterozygotes represent carriers of genetic burd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burdens also exist in humans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8360" y="2743200"/>
            <a:ext cx="792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, Krou, Miller (1956) - based on data on stillborn children calc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lethal equival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mounts to 2 for gametes, or 4 for zygo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hal equivalent - the presence of one lethal mutation or a group of partially lethal mu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chanism of occurrence of genetic burde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assical theory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ou and Kim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Mutation theo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gene loci are in the homozygous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enetic burdens are eliminated from populations by mu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ethal mutations decrease the viability of heterozyg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3-5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ew mutations lead to the occurrence of genetic burd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alanced theory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5000"/>
            <a:ext cx="822960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gene loci in the population are in the heterozygous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mphasis is placed on balanced se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tations are recessive and in the heterozygous state they form combi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breeding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in close kinship have a greater number of identical g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 of inbreeding is calculated by the formu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=(1/2)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degree of kinshi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bability that certain genes will be found in a homozygous state, which originate from a common ances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within kinship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consangu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reeding reduces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's experiment (1876) - for 8 generations, the number of offspring decreased by 3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ts - % of sterile crosses 41%, litter size decreased from 7 to 3 offspring, mortality up to 4 weeks 4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rriages within kinship, there is a 40% increased stillbirth rate of children, and the number of children with hereditary malformations is 30%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riage within kinship among first cousi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 and colleagues (1956) f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nital defects are more common by about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births by about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atal mortality by about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before adulthood is 100% 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 Greeks, Egyptians, and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olic Church and laws in some countries allow marriage up to the four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law allows marriage up to the six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isolation may be a reason for increased frequency of marriages within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structure of the population 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hemical characteristic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al polymorph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gree of kinsh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shared gen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y of homozygos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-childr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ygotic tw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ts,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ews, nie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us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of aunts and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360" y="184464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etermining the frequency of gene alle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termining the allele frequency i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monogenically determined trait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 Hardy-Weinberg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dominant allel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MN blood grou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contains 3 blood 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h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individual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 of codominant allel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 number of individuals with M blood typ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M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214200" y="326232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54936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ltiple allel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ABO blood group syst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A allele (IA) =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B allele (IB) =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O allele (IO) =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one population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A (IAIA or IA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p^2 + 2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B (IBIB or IB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q^2 + 2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AB (IAIB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2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lood group O (IOIO): 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r^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ies of multiple allel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Quantitative properties -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an be represented on a quantitative sca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widely, so overlapping in expression is observed (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there is no alternative tr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, weight, cholesterol level, blood pressure, skin colo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achiev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a cumulativ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kin color - AAbb: darkest black, aabb: lightest white, AaBB, AABb: black, AaBb: mulatto, Aabb, aaBb: w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Qualitative propertie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not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in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system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our cou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 Eur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</a:t>
            </a:r>
            <a:r>
              <a:rPr b="1" i="1" lang="en-US" sz="2800" spc="-1" strike="noStrike">
                <a:solidFill>
                  <a:srgbClr val="0000ff"/>
                </a:solidFill>
                <a:latin typeface="Arial Narrow"/>
              </a:rPr>
              <a:t>bloo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bia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ance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g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ot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e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Frequency of genetic allels also varie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lbi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bbean Islands - 8.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ego-Congo Tribe - 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egians and Americans - 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ns - 0.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ss - 0.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 -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P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n Aborigines -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kimos - 5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es -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ns -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s -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esians and Africans - 2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- 1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s from Brazil -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Microsoft Office User</cp:lastModifiedBy>
  <dcterms:modified xsi:type="dcterms:W3CDTF">2025-02-05T11:22:00Z</dcterms:modified>
  <cp:revision>197</cp:revision>
  <dc:subject/>
  <dc:title>MUTACIJE GENA</dc:title>
</cp:coreProperties>
</file>