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2B0D-E57C-4D40-9159-B300EE86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CCFF-47B8-4E89-8B58-3A4143590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A48-AE2E-4FEE-9CA8-775C60BC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253-4628-4259-BA70-7FF6D64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E6F-83C3-4325-B4A1-B69206C4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9E6-26FF-41AC-AE48-0D000C66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BC6C-3224-4BE7-8851-BC226DE1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B8D-8A4C-46FC-9493-50F2A29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807B-29C8-4D3F-AB7F-24527EA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6335-94D9-4CE8-A27E-5F3540A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B5B1-10F0-40EC-879F-0F6EF7C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01B-0957-46A4-89BC-CEBA7F81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5695-4B05-4846-83C9-4F2F623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54B-0B9F-4961-916B-B9B7EAD4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932B-692F-42D3-BE52-28E79F5C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C11A-66DE-40CA-99C7-00EF0EE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C16-DB57-40AA-B155-CBE7EDC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D0E-7D20-4342-8244-F96EBC73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DD80-613A-4AA5-B0E9-2FB703B1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59E6-06D5-42FE-9A2D-070058AF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A307A-2312-496B-9C3A-DAA26F21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C863-45C4-4CE5-9903-F782258D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013D-0BCA-49F2-9E7D-369982DC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15AD-9449-4E38-A7DA-2031F2CF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09F-C4AE-4D2F-987D-818F328A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41A7C-34F9-40F4-A7A6-A27AB89B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0E3B-49D4-47E8-BCA8-12D96566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9767-1EBF-4F51-9601-DC3D0AC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9FDA-2347-4AA6-B4E8-45259C3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808C-084B-490E-B49B-4C23CF2B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F4A4-1643-4C43-9491-1A4CA1F6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9F80-006B-4039-88D5-47E2BF67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2309-2706-44FB-8BB1-8AE780E3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A624-0134-47FB-BF22-B46FA34C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D274-49E1-47AA-98EC-32304F7B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80C-1F41-4096-97A3-B628FA5B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2B8E-7259-4F27-84C7-0D3593DF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FADB-210E-4DBA-A480-9B3B904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BDAB-08BD-4F26-B7F4-662096BF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D2F7-44E6-4C71-9E65-B4E720E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83B8-3F27-46BB-9ECE-FCF470F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9514-DB64-4728-9865-E73A777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2C13-D047-48F7-88FC-B01F67DA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E7BE-41ED-42D0-9953-25BBE4B0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1605-0B2D-4367-8AD6-9AEE8CE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381-C70B-4A58-BA6F-202FAE7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430D-F5EC-45D2-BEB3-2EB0A34A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410-76D5-4E86-96B2-E8CC482F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912-5F5D-4515-AB7C-2124A5B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87F-89AA-4F98-84C1-F75C3D2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AC56-1050-4A1B-AFD6-F5245C04A0F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9CA7-359A-46D2-9166-2C33539277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9419-E94A-40B0-80EA-73FAB67AF06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320-9160-491F-A8B1-8834337E9B5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PULATION GENE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 u="sng">
                <a:solidFill>
                  <a:srgbClr val="000000"/>
                </a:solidFill>
                <a:uFillTx/>
                <a:latin typeface="Arial"/>
              </a:rPr>
              <a:t>ABO system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884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our cou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A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-3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-16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B-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7560" y="2124000"/>
            <a:ext cx="3917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Euro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ff"/>
                </a:solidFill>
                <a:latin typeface="Arial Narrow"/>
              </a:rPr>
              <a:t>А </a:t>
            </a:r>
            <a:r>
              <a:rPr b="1" i="1" lang="en-US" sz="2800" spc="-1" strike="noStrike">
                <a:solidFill>
                  <a:srgbClr val="0000ff"/>
                </a:solidFill>
                <a:latin typeface="Arial Narrow"/>
              </a:rPr>
              <a:t>bloo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bia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4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rance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-30-3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g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25-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ot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 20-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eland-</a:t>
            </a:r>
            <a:r>
              <a:rPr b="0" lang="sr-CS" sz="2800" spc="-1" strike="noStrike">
                <a:solidFill>
                  <a:srgbClr val="000000"/>
                </a:solidFill>
                <a:latin typeface="Arial Narrow"/>
              </a:rPr>
              <a:t>15-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Quantitative vs Qualitative - Tales from the Genome - YouTube"/>
          <p:cNvPicPr/>
          <p:nvPr/>
        </p:nvPicPr>
        <p:blipFill>
          <a:blip r:embed="rId1"/>
          <a:stretch/>
        </p:blipFill>
        <p:spPr>
          <a:xfrm>
            <a:off x="1619280" y="2133720"/>
            <a:ext cx="5456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iochemical characteristics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electrophoresis, it has been shown that in hum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% of genes are poly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% of genes are monomor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7% are found in a heterozygous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omosomal polymorphism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hanges in the structure of chromosomes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 not have pathological consequences for the carrier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hange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entromer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Y chromo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and presence of satellites on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ile sites (exception is fragile X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osome inversions (according to some auth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95868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ardy-Weinberg rule is the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undation of population genetic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4000" y="24681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mathematician Hardy and German physician Weinberg (19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ther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 allel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allele 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ly in individuals of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RS" sz="5600" spc="-1" strike="noStrike">
              <a:solidFill>
                <a:srgbClr val="4ce4a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Chapter 25 Population Genetics Flashcards | Quizlet"/>
          <p:cNvPicPr/>
          <p:nvPr/>
        </p:nvPicPr>
        <p:blipFill>
          <a:blip r:embed="rId1"/>
          <a:srcRect l="0" t="0" r="0" b="5919"/>
          <a:stretch/>
        </p:blipFill>
        <p:spPr>
          <a:xfrm>
            <a:off x="766800" y="623880"/>
            <a:ext cx="729936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quencies of gene alleles and genotypes in the population</a:t>
            </a: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27" name="Picture 35" descr="Image result for hardy weinberg images"/>
          <p:cNvPicPr/>
          <p:nvPr/>
        </p:nvPicPr>
        <p:blipFill>
          <a:blip r:embed="rId1"/>
          <a:stretch/>
        </p:blipFill>
        <p:spPr>
          <a:xfrm>
            <a:off x="2125800" y="2637000"/>
            <a:ext cx="496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595080"/>
            <a:ext cx="5904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Hardy-Weinberg ru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773000"/>
            <a:ext cx="864216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АА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2pq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Latn-CS" sz="2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2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 (100%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р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maintains its genetic structure (equilibrium) when transitioning from one generation to anoth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requency of genotypes in the offspring generation depends on the frequency of gene alleles in the parental gener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7516800" y="0"/>
            <a:ext cx="16416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5472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requency of heterozygotes (2pq) in the population at equilibriu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2060280"/>
            <a:ext cx="44654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0.5 or 5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reater than the frequency of one homozygote, but it is never greater than the sum of homozygotes (2pq ≤ p^2 + q^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is when the frequency of allele A (p) is equal to the frequency of allele a (q) (p=q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 result for hardy weinberg images"/>
          <p:cNvPicPr/>
          <p:nvPr/>
        </p:nvPicPr>
        <p:blipFill>
          <a:blip r:embed="rId1"/>
          <a:stretch/>
        </p:blipFill>
        <p:spPr>
          <a:xfrm>
            <a:off x="5148360" y="2276640"/>
            <a:ext cx="3914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rder for the population to maintain its genetic structure (equilibrium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24922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conditions need to be satisfie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opulation remains in panmix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no mut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965160" y="698400"/>
            <a:ext cx="7785000" cy="978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26920" y="2001960"/>
            <a:ext cx="7126560" cy="194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343080" indent="-343080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Population genetics is the study of the 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genetic composition (diversity) of populations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, including distributions and changes in genotype and phenotype frequency in response to the processes of natural selection, genetic drift, mutation and gene flow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Population Genetics: When Darwin Met Mendel Crash Course Biology #18 |  Population Genetics And Evolution | onad.gov.cv"/>
          <p:cNvPicPr/>
          <p:nvPr/>
        </p:nvPicPr>
        <p:blipFill>
          <a:blip r:embed="rId2"/>
          <a:stretch/>
        </p:blipFill>
        <p:spPr>
          <a:xfrm>
            <a:off x="971640" y="3784680"/>
            <a:ext cx="4051080" cy="3038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Applications Of Population Genetics In Agriculture And Medicine -  FasterCapital"/>
          <p:cNvPicPr/>
          <p:nvPr/>
        </p:nvPicPr>
        <p:blipFill>
          <a:blip r:embed="rId3"/>
          <a:srcRect l="0" t="12306" r="0" b="0"/>
          <a:stretch/>
        </p:blipFill>
        <p:spPr>
          <a:xfrm>
            <a:off x="5180040" y="4653000"/>
            <a:ext cx="328140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anmixia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ffers from random m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is the probability that an individual of one sex has a chance of being fertilized by an individual of the other sex in which the observed trait is expressed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nmixia, in addition to random mating, it is necessary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Each type of crossbreeding produces the same number of off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sex ratio in the population is 1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 population is infinitely lar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 are two types of deviations from random mating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ssortative mating of g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(in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more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(outbreeding)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who are less closely related than the average pair of individuals in that pop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Assortative mating of pheno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osi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a similar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Negative 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 frequent mating of individuals in which the observed trait is expressed in different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population consistently maintained its genetic structure, there would be no evolution.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3320" y="2637000"/>
            <a:ext cx="8640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Evolutionary factors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ors that disrupt the genetic structure of a population are: 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systematic and non-systematic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Selection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stemat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Arial"/>
              </a:rPr>
              <a:t>Mutations, migrations, genetic drift -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n-systematic evolutionary fac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the favoritism or elimination of genes or genotypes due to differential fertility or differential survival of individ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reproductive capacity of individuals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daptive value (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reduction in relative reproductive capacity is th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election coefficient (S</a:t>
            </a:r>
            <a:r>
              <a:rPr b="0" lang="sr-Latn-CS" sz="2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cc0099"/>
                </a:solidFill>
                <a:latin typeface="Arial"/>
              </a:rPr>
              <a:t>W+S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dominant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206028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ast becaus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it acts on both homozygotes and heterozygotes simultaneous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ful dominant gene can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completely penetrant, preventing reproduction of all c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it will be eliminated in that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partially penetrant, preventing reproduction of some individuals (partial selec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ontinuously maintained in the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of harmful recessive gen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low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 acts only on recessive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fferentiate betwe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omozygotes in favor of heterozyg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Selection against heterozygotes in favor of homozyg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against homozygotes in favor of heterozygote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ickle cell anemia, thalassemia, G6PD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 HbS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-H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s-HbA and HbS (has a selective advantage in malaria-endemic reg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against heterozygotes in favor of homozygo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2565000"/>
            <a:ext cx="87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Rh fac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    Dd x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1   Dd, Dd, dd, d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 the body of Rh-negative mothers, Rh-negative fetuses have a natural selective advanta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7280" y="53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igration, immigration, and emigratio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34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sure gene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change in genetic structure depends on the extent of gene flow and the genetic differences between two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xchanging genes, populations become more similar in their genetic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way for new genes to appear in the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Mutations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2060280"/>
            <a:ext cx="8445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m mutations are passed on to offspring from generation to gene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5-20% of conceived zygotes end up as spontaneous ab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% of spontaneous abortions occur due to chromosomal aber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546120" y="1054080"/>
            <a:ext cx="7785000" cy="952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209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group of individuals of one species, living in a prescribed geographical ar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Subpopulation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localized, distinct breeding grou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2529"/>
                </a:solidFill>
                <a:latin typeface="Open Sans"/>
              </a:rPr>
              <a:t>Gene pool</a:t>
            </a:r>
            <a:r>
              <a:rPr b="0" lang="en-US" sz="2200" spc="-1" strike="noStrike">
                <a:solidFill>
                  <a:srgbClr val="212529"/>
                </a:solidFill>
                <a:latin typeface="Open Sans"/>
              </a:rPr>
              <a:t>: collection of all gene forms (alleles) in a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population genetics genotype versus gene pool vector infographic 35209893  Vector Art at Vecteezy"/>
          <p:cNvPicPr/>
          <p:nvPr/>
        </p:nvPicPr>
        <p:blipFill>
          <a:blip r:embed="rId2"/>
          <a:stretch/>
        </p:blipFill>
        <p:spPr>
          <a:xfrm>
            <a:off x="1908000" y="4141800"/>
            <a:ext cx="4788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enetic drift – random genetic drift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46080"/>
            <a:ext cx="8424720" cy="41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in the frequency of gene alleles in a population can also be a result of chan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occur in two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creating isol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By losing a low-frequency gene allele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oogenesis, a low-frequency allele is randomly distributed in a oocyte and is lost from the popul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populations - inhabitants of a village, a city, a street...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915920"/>
            <a:ext cx="8066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pecies is divided into a large number of natural populations, and the largest population groups are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human races (Negroids, Caucasoids, and Mongoloi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race is a group of historically related people with a common gen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 includes a smaller or larger number of local popu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has been assumed that races arose solely due to geographical isolation, and that other factors have influenced them - selection, genetic drift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520560" y="1371600"/>
            <a:ext cx="7874280" cy="18795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68000" y="3645000"/>
            <a:ext cx="78534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polymorph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stantly mov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ntinuously interacting with environmental facto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Genetic burden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represent mutations, most commonly recessive ones, that decrease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most well-known genetic burdens is inbr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here are two approaches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8920" y="1935000"/>
            <a:ext cx="8713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rou (1958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burdens are the degree of reduction in the adaptive value of the average genotype compared to the best geno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bzhansky (1964)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whose adaptive value is below the established average for heterozygotes represent carriers of genetic burd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breeding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400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close kinship have a greater number of identical g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inbreeding is calculated by the formu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=(1/2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- degree of ki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bability that certain genes will be found in a homozygous state, which originate from a common ances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within kinship - 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sangui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1136160"/>
            <a:ext cx="54882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280" y="1484280"/>
            <a:ext cx="826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breeding reduces the relative reproductive capacity of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win's experiment (1876) - for 8 generations, the number of offspring decreased by 3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ts - % of sterile crosses 41%, litter size decreased from 7 to 3 offspring, mortality up to 4 weeks 4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rriages within kinship, there is a 40% increased stillbirth rate of children, and the number of children with hereditary malformations is 30% hig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riage within kinship among first cous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4000" y="2708280"/>
            <a:ext cx="79261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n and colleagues (1956) f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nital defects are more common by about 4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births by about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mortality by about 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ity before adulthood is 100%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Greeks, Egyptians, and J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holic Church and laws in some countries allow marriage up to the four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law allows marriage up to the sixth degree of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isolation may be a reason for increased frequency of marriages within ki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of individuals of the same species that inhabit a specific habitat at a specific time and can engage in reproductive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Population genetics | Broad Institute"/>
          <p:cNvPicPr/>
          <p:nvPr/>
        </p:nvPicPr>
        <p:blipFill>
          <a:blip r:embed="rId1"/>
          <a:stretch/>
        </p:blipFill>
        <p:spPr>
          <a:xfrm>
            <a:off x="3062160" y="4292640"/>
            <a:ext cx="30196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e1e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gree of kinshi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shared gen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ability of homozygos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nts-childr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zygotic tw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nts,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hews, niec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sibling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-degree relativ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us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of aunts and unc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termining the allele frequency i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nogenically determined traits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8920" y="2421000"/>
            <a:ext cx="8697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the Hardy-Weinberg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) + 2pq (Aa) + q</a:t>
            </a:r>
            <a:r>
              <a:rPr b="1" lang="sr-Latn-C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(aa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10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p + q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sr-Latn-CS" sz="2800" spc="-1" strike="noStrike">
                <a:solidFill>
                  <a:srgbClr val="0000ff"/>
                </a:solidFill>
                <a:latin typeface="Arial"/>
              </a:rPr>
              <a:t> 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codominant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56576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the MN blood grou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contains 3 blood 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3080" y="2997360"/>
          <a:ext cx="9070920" cy="3247920"/>
        </p:xfrm>
        <a:graphic>
          <a:graphicData uri="http://schemas.openxmlformats.org/drawingml/2006/table">
            <a:tbl>
              <a:tblPr/>
              <a:tblGrid>
                <a:gridCol w="2266920"/>
                <a:gridCol w="1643040"/>
                <a:gridCol w="1630440"/>
                <a:gridCol w="1631880"/>
                <a:gridCol w="1898640"/>
              </a:tblGrid>
              <a:tr h="92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enotype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 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 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individual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4"/>
          <p:cNvSpPr/>
          <p:nvPr/>
        </p:nvSpPr>
        <p:spPr>
          <a:xfrm>
            <a:off x="255600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+ B + C = 1 (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equency of codominant allel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79280" y="1600200"/>
            <a:ext cx="89647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sr-CS" sz="3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+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 number of individuals with M blood typ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M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umber of individuals with N blood typ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 + B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1568520" y="2517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531800" y="423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50920" y="1773360"/>
            <a:ext cx="3240000" cy="136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46240" y="3203640"/>
            <a:ext cx="3313080" cy="1584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Determining the frequency of 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multiple alleles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BO blood group syst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A allele (IA) =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B allele (IB) = 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O allele (IO) = 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p + q  + r = 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5200" y="549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 one population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78920" y="2492280"/>
            <a:ext cx="8425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А + АО 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B + BO + AB +O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      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B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AB 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O  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pr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q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2p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 (100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07960" y="203688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^2 + 2p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q^2 + 2q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AB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2p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 of blood group O (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r^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9760" y="549000"/>
            <a:ext cx="8489880" cy="97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ies of multiple allele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r, p, q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15880" y="1915920"/>
            <a:ext cx="82296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= √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B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= 1- √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1692360" y="1916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2035080" y="198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371628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763720" y="357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3817800" y="5084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2809800" y="506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2492280" y="3500280"/>
            <a:ext cx="21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606760" y="4927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structure of the population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9520" y="227664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ge in the genetic structure of the population is a result of adaptation to new environmental 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over time, it's called evolutionary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hanges are studied in terms of space, it's called ecological population gene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tructure of the population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ative trait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chemical characteristics of individuals in the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al polymorp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74872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uantitative properties -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be represented on a quantitative scal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enic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expression is influenced by environmental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vary widely, so overlapping in expression is observed (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there is no alternative trait, can take on any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weight, cholesterol level, blood pressure, skin colo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Qualitative and Quantitative traits - ppt video online download"/>
          <p:cNvPicPr/>
          <p:nvPr/>
        </p:nvPicPr>
        <p:blipFill>
          <a:blip r:embed="rId1"/>
          <a:srcRect l="22110" t="35742" r="23097" b="13071"/>
          <a:stretch/>
        </p:blipFill>
        <p:spPr>
          <a:xfrm>
            <a:off x="2916360" y="5140440"/>
            <a:ext cx="2447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traits achieve </a:t>
            </a:r>
            <a:r>
              <a:rPr b="0" lang="en-US" sz="2800" spc="-1" strike="noStrike">
                <a:solidFill>
                  <a:srgbClr val="04617b"/>
                </a:solidFill>
                <a:latin typeface="Arial"/>
              </a:rPr>
              <a:t>a cumulativ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kin color - AAbb: darkest black, aabb: lightest white, AaBB, AABb: black, AaBb: mulatto, Aabb, aaBb: w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Qualitative properti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genic traits are determ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xpression is not influenced by environmental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vary in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MN, ABO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Microsoft Office User</cp:lastModifiedBy>
  <dcterms:modified xsi:type="dcterms:W3CDTF">2024-06-05T08:01:23Z</dcterms:modified>
  <cp:revision>200</cp:revision>
  <dc:subject/>
  <dc:title>MUTACIJE GENA</dc:title>
</cp:coreProperties>
</file>